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67E-0850-42A4-997A-190A25B8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982-D722-48F8-BAA9-66DFAEB8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0A0-1241-45F8-B3EF-E4542A0F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BC3-A09C-4879-8E6A-775355F1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B2EB-E745-4118-9A54-B7B01904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74C1-8DAE-4B76-AA2D-9C6C261B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722E-5CB3-4ADA-959C-47672203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5A1B-F47F-4F8A-ACAF-0E4B1704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0018-7D21-4E79-9767-435C9863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13EE-0FBB-49DD-BAE2-7CDEE51F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8015-6C97-4C5B-87F5-17C0B7F4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A37-90F8-4787-B1A4-141BBFAC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A0C6-03C7-44F4-8C3E-45C5F545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C8E5-F414-4A40-8614-DE9D388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4FAC-D54A-49AE-90CF-5F904B3F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A4A3-46BD-4919-B598-1E28497B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A703-9D08-4F3E-B892-06B9B9D4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846-C95C-4B47-8425-FAEDBB16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9D0-7739-46E6-BE12-6AE8AA6C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5B0-88F4-4407-B088-C1B2B294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ABD-5DFA-47AC-B1E6-962994FE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C58-3840-402C-BF8F-1B19660D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3AE-5837-4485-9E55-E2D22069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831-6686-480A-BFB4-B6A41C8D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120C-9C4E-40BD-8777-6D5575EA761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F86F-A5E0-499D-9AD8-8594FD6A551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www.liquidsculpture.com/images/water/water-drop.jpg&amp;imgrefurl=http://www.liquidsculpture.com/&amp;usg=__DtyJx5UgmWELvrdBKUf-rgXkuMQ=&amp;h=515&amp;w=630&amp;sz=40&amp;hl=en&amp;start=2&amp;zoom=1&amp;itbs=1&amp;tbnid=px1ZCzRhlGhfHM:&amp;tbnh=112&amp;tbnw=137&amp;prev=/images%3Fq%3Dwater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What Do You Know About Water… on Earth?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429000"/>
            <a:ext cx="2971800" cy="24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963720"/>
            <a:ext cx="9601200" cy="457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138320"/>
            <a:ext cx="929628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Customer</cp:lastModifiedBy>
  <dcterms:modified xsi:type="dcterms:W3CDTF">2010-09-09T16:31:01Z</dcterms:modified>
  <cp:revision>18</cp:revision>
  <dc:subject/>
  <dc:title>Slide 1</dc:title>
</cp:coreProperties>
</file>